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1A41-716B-43BB-B424-D726667827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carbon acetyl CoA joins with a 4-carbon compound to form a 6- carbon compound called C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carbon acetyl CoA joins with a 4-carbon compound to form a 6- carbon compound called C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ady to start the cycle onc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rbons removed are released as C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is process called decarbox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e release of hydrogen are called dehydrogen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ady to start the cycle onc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rbons removed are released as C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is process called decarbox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e release of hydrogen are called dehydrogen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enzyme NADH2 transfers hydrogen to a chain of hydrogen carriers called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enzyme NADH2 transfers hydrogen to a chain of hydrogen carriers called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fer of hydrogen from each NADH2 alo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cess called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oxidation of glucose yields 38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fer of hydrogen from each NADH2 alo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cess called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oxidation of glucose yields 38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ed by enzyme cytochrome oxid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ed by enzyme cytochrome oxid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D9C-AAAE-4471-86E7-C1D6AD97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F36-2678-48B7-8B41-64EE6000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8DFA-6871-4373-BBA2-E2BEAE25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F3A-42F4-41B7-B622-E2CC0CCD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287-5558-450B-8C58-5E758EC5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C21E-6427-49E2-87E9-191425B4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EA61-59CA-4116-8A96-1251FDE1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0524-CF6F-485D-A221-DC24CE19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926F-F940-4110-B7D6-9E5952FD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537-3E45-4E98-BDB8-6A05030A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F05-B352-4813-BB54-01B044AD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22F-9216-48A1-9E2B-BAE0BFDE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F3BE-8174-41FE-AEB5-4400B68D2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-carbon acetyl Co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s with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-carbon comp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orm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- carbon compou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it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y to start the cycle once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rbons removed are released a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nzymes controlling this process calle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carboxy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nzymes controlling the release of hydrogen are calle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hydrogen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Krebs cycle"/>
          <p:cNvPicPr/>
          <p:nvPr/>
        </p:nvPicPr>
        <p:blipFill>
          <a:blip r:embed="rId1"/>
          <a:stretch/>
        </p:blipFill>
        <p:spPr>
          <a:xfrm>
            <a:off x="826920" y="189000"/>
            <a:ext cx="741708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d coenzyme NAD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ransfers hydrogen to a chain of hydrogen carrier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ytochrom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fer of hydrogen from each NAD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o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ces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lete oxidation of glucose yield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8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The cytochrome system"/>
          <p:cNvPicPr/>
          <p:nvPr/>
        </p:nvPicPr>
        <p:blipFill>
          <a:blip r:embed="rId1"/>
          <a:stretch/>
        </p:blipFill>
        <p:spPr>
          <a:xfrm>
            <a:off x="179280" y="1628640"/>
            <a:ext cx="882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led by enzy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ytochrome oxid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1:39:20Z</dcterms:created>
  <dc:creator>hhashmi</dc:creator>
  <dc:description/>
  <dc:language>en-US</dc:language>
  <cp:lastModifiedBy>RomaK</cp:lastModifiedBy>
  <dcterms:modified xsi:type="dcterms:W3CDTF">2015-09-04T11:07:14Z</dcterms:modified>
  <cp:revision>7</cp:revision>
  <dc:subject/>
  <dc:title>The Krebs Cycle</dc:title>
</cp:coreProperties>
</file>